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A6AD-77B0-4E44-8509-CBE07C33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6CA-05FC-4525-8486-28613D5D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426C-5999-4172-A088-98036D5A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3543-0DBF-4ACF-8728-3419596F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BD03-B6E9-4E52-80AA-873E962D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1412-A819-41C1-977B-4A6A24EE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9A98-3DB3-4823-A851-55586FB7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01F6-A029-4AB8-BD9F-367CBEB4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6146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8D47-C532-4113-B98D-1B440DF4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6F95-2C5D-4F90-BC76-F2DC4A74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7FAE-958E-4E80-8B5D-EA1F34DD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7747-D945-4B90-9267-F313AF0A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7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51CB-E0FC-4622-82C9-9A0D147FDC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Structure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Structures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476280"/>
            <a:ext cx="172728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59600" spc="-1" strike="noStrike">
                <a:solidFill>
                  <a:srgbClr val="000000"/>
                </a:solidFill>
                <a:latin typeface="Verdana"/>
              </a:rPr>
              <a:t>Transformation</a:t>
            </a:r>
            <a:endParaRPr b="0" lang="en-US" sz="355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XML et X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1197000"/>
            <a:ext cx="5040360" cy="2919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?xml version="1.0" en_oding="ISO-8859-1" ?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700280"/>
            <a:ext cx="4321080" cy="28101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bib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Guerre et paix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Léon Tolstoï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roman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Fondation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Isaac Asimov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science-fiction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La nuit du renard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Mary Higgins Clark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policier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700280"/>
            <a:ext cx="4321080" cy="433944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Guerre et paix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Léon Tolstoï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roman&lt;/genr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Fondation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Isaac Asimov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science-fiction&lt;/gen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La nuit du renard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Mary Higgins Clark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policier&lt;/gen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X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