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36B-9116-4781-A477-1C97E86A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A8D-48C5-4406-ABE0-A81D1C8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AA3-5F3A-46EA-9856-2C0577A9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F9A-B2B2-4F4C-A8DF-1129566F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E0A3-66D6-4A6C-B55D-3ACF33A0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35C9-0D13-4FCB-ACE0-C9F8C3CE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B733-9B6D-4BC6-8E14-1243E627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C902-9224-4852-9D0E-CFE8B73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5543-B272-4BF1-98E4-8EAB08D1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DC6A-0B0A-4DB9-9936-2C4D85D8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DC3-D9FE-4245-A881-4DB801F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8B6-F0CD-4BE7-A238-E696D61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AF76-2579-4F8B-A0B4-D96DBCF3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DCD-7652-4BF9-A3AE-82421D2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CE2-C5CA-40AB-9240-989375C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044-FFBC-4E4E-926A-8918EDA1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E4CB-B873-439E-BD2B-D6DE4546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7EF-CB3D-4A97-83B2-3527390F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5FB-CA75-4F09-918E-0AD6D728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74B-6AB2-4D31-B46B-753EC4C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EC6-A4E7-426A-8D95-0CE806E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A56-0A18-4F8B-9FE5-29E97E5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9B9-6DB1-49E1-8F8F-AF7FC0F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96F-6C86-43BE-A6CF-70DBEA7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EC78-70EC-4EC4-80BC-BA881E2AC6C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5E6-DF50-49D5-BE3F-FF9C600CDE7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184880" cy="474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53360" y="5438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间套还可表达为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9640"/>
            <a:ext cx="7304040" cy="471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259240"/>
            <a:ext cx="76770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4040" y="762120"/>
            <a:ext cx="7840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63876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773280"/>
            <a:ext cx="69976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9160" y="533520"/>
            <a:ext cx="7937640" cy="43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808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97040" y="758880"/>
            <a:ext cx="697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20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8640" y="692280"/>
            <a:ext cx="78058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7040" y="523800"/>
            <a:ext cx="7813440" cy="4619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9880" y="5029200"/>
            <a:ext cx="7837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782640"/>
            <a:ext cx="6885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50760" y="812880"/>
            <a:ext cx="69217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671400"/>
            <a:ext cx="74613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60360"/>
            <a:ext cx="7921800" cy="4516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4962600"/>
            <a:ext cx="68976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835200"/>
            <a:ext cx="725508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57360"/>
            <a:ext cx="73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698400"/>
            <a:ext cx="715644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3080" y="1038240"/>
            <a:ext cx="6416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735120"/>
            <a:ext cx="6946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8280360" cy="47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5321160"/>
            <a:ext cx="5545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543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709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3480" y="674640"/>
            <a:ext cx="6956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7:25Z</dcterms:created>
  <dc:creator>lwl</dc:creator>
  <dc:description/>
  <dc:language>en-US</dc:language>
  <cp:lastModifiedBy>lk</cp:lastModifiedBy>
  <dcterms:modified xsi:type="dcterms:W3CDTF">2005-06-30T00:58:53Z</dcterms:modified>
  <cp:revision>21</cp:revision>
  <dc:subject/>
  <dc:title>幻灯片 1</dc:title>
</cp:coreProperties>
</file>