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58A-4526-4835-A68C-36DD68B9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501-2890-4D1A-ABB0-9B59DB0B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702DD-D278-4291-BE72-7858B9C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987F8-A8E5-468E-B2A0-50257B53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0A216-59AB-4EB7-87FE-F82F840F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169C4-2DA4-478F-8DE6-3AB671F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1144E-8FBB-47CA-8127-8680E258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AAE06-3009-46F0-82DB-4B6C79E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8B209-ACD4-47C4-B015-59C73B2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34D53-5A81-4055-A2FC-AB3FD5E5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80554-4CAD-4EB4-B746-63D93006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0C098-4C91-49ED-82EC-AC317438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B9A-101C-4DF1-8FF3-4FD84038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2F84B-4584-4375-BFB9-D4D48043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FCBA9-CE8A-4858-A895-8DA8CF2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E56A9-FC09-4E72-9BB1-331BC348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D30D7-5228-48E2-A903-E3280D14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ED16F-D871-4BE3-86ED-7EF0F5CC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738C6-AC15-4A00-9836-66C7D657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D1249-BB1A-477B-BAA7-C554BA2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454B1-7808-4E90-B0F7-50F166E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9E032-D52C-4F8A-A87C-4B9F72F5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C1957-6299-44DB-84D0-1070CAC3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097-369D-428C-9BD6-FB5582A1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2BEF3-5789-427A-86C2-976EBD38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97B3-E7C0-4D3A-94A7-3A1CF72D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E165-3538-4E53-9445-6578363D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F93-ABD0-4171-8280-D79A46C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F39E-2E53-44D3-8A15-DE8DD8D2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639E-907C-4744-8FF6-C6E0E2C0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29C6-DBE1-4C0E-A3AD-7856046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FD30-60D4-45C4-907F-1AF55BFF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6F7-06D3-48CC-ADE7-42CDA959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AFFF-4D29-4E7C-8C76-BCA53B3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1FCF-329F-4DB5-9AC5-D7264F2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8B43-A710-461C-B818-71E320AF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98A4-7801-4D99-AFFA-F7C8074D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AAF2-124C-441E-87CC-1A670E8B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A850-600F-4E63-A94F-8DCD6F38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617B-3DD0-4BA6-89F9-0CB06CB8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47A3-B792-4203-90ED-152EC0DB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37DB-B855-4065-9918-5CBD257C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4601-CB16-4381-BA37-DDC5FFFD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9FF-9355-4A3A-9C48-71A4821F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E86E9-EEC5-4918-BDDF-17D30D56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C7F8-D9F6-4E4E-BB8C-DBE27D1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A13F-D853-4237-BCBD-1914663F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0667C-E947-4361-A13B-CDE3CD36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4B70-28AB-449A-8518-297080C8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1EC2D-14FF-461E-ACE0-6C6A7C7D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020A-3AA9-4C46-AE14-F4595BAF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913F-34B3-48C7-9FB1-6CB4EE24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951C-EA75-45AD-8EB0-72ADD391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829B-FB61-4020-8E1E-7D1A712E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8D8-22CB-4DF9-A59F-2663D356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D92E-E2A6-4B31-93F5-CEFAC845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10A7-E380-4582-8EC8-787FB6AD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3838-0366-4D63-BC0F-0ED7AC52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4408-9ED1-4634-BC2A-E8224C25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A7AA-06FA-4F77-9904-04A3280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A77A-52E5-4726-8F77-3C5E3B45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F768-1950-4604-B51B-EF04A79E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D303-7E9F-496C-B280-216D77EF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E529-90F9-44D3-BB4E-B3917FDA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8EDBF-8DCA-4212-8541-4A2A244F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099-5284-4EA9-A8B7-F1F07848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93A9D-E59F-4F77-A204-ED3BF073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6E646-5A6A-4D02-8423-88B27C5F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C93C-632D-4976-B302-57F9876E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48BFC-5907-4B57-9485-B6D9D6C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FC1F-E30B-4E9A-8C91-CE52704A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970D-069F-465B-A125-D7A5397F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2F21A-568B-46D1-A5B4-FC64B85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B081E-9203-40E8-AD01-6DE95024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2C585-9525-4DBC-9945-3B4217ED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62A87-A4FC-4079-9EC9-B51EAE23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A84-2384-4815-8F61-31D22D0C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56A6-B201-4752-A6F4-9FCDA513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D722-A00A-4B94-957B-9FFCD249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89F0C-1830-4363-97AB-5806D3F8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C04E-3BD7-4959-80DA-38426CF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231B-1C51-498B-BD9A-4B3A657F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303AE-5DC2-45D7-97B5-D59B894E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06F61-3843-475F-A320-959D7BC2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5C37F-4EC2-47F7-B757-E79C3C2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E6F1A-EA0C-48DE-87DB-B66854AA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D0F4B-83F0-47C8-A411-02AF7EB7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E1F-8DF8-421E-8827-5D51281D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D2B5A-CC16-43A9-BFAE-B3E4775F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43875-3E43-406E-B8CC-CCC134C6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1BA21-B72A-4DC0-8707-9F83BCF2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F82A8-4C7F-4AFC-BF01-8FC04B56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EB5C4-340D-4040-8406-6E54F51F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47948-6CDD-466C-B250-FB47DBD4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FFEF5-A11E-475F-A7C2-1BC97BB6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8B3CF-2A65-4B4E-BBC7-035A4CA7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E2C95-D6CF-4BB0-B6F9-F04419F7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6D5C2-6286-4621-8FCB-56554CB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F67-7493-4F86-A3DC-C32F595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981A1-AE0C-445A-B573-24C15DA3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5ABE2-B9A6-4E9A-8A34-97FD7670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75C4-31EE-4EF0-B013-BED21AC3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8E0DB-D194-4189-9C8A-9A8DB7FB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370AA-BBCE-49AA-A593-AACD9478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BE3F7-672B-434A-9181-291D8CDF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BDEC0-0BDE-49E7-A13A-AA4EC562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B77D8-8B3D-43E0-855E-7FE100A1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8A71A-BB16-44A0-A518-6D0DBD58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146B4-96D5-4F81-9C55-AEC8B685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C9F-22C0-4020-B59F-C6982C4B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E741B-D294-4263-A2E5-8CE91328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47800-7C1D-4400-9B3A-231B3F44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81E15-D858-43CF-BCEC-7B00C3EC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7518-650E-4C75-844B-C8DBC61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05F3-8928-4A2B-9638-9B9431E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BB15C-3839-4A08-ADC2-43A51B65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FBD94-4143-4755-943A-BF59525C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8A0ED-6D6B-4670-9E27-AAFBB5FE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79C75-9C26-4638-8A58-B8806262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A865E-527D-46C2-BDED-1DC1FA28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-29865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3324-8CF9-4B7C-B415-24B16798863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303680" y="54720"/>
            <a:ext cx="2148120" cy="2075040"/>
            <a:chOff x="7303680" y="54720"/>
            <a:chExt cx="2148120" cy="2075040"/>
          </a:xfrm>
        </p:grpSpPr>
        <p:grpSp>
          <p:nvGrpSpPr>
            <p:cNvPr id="39" name=""/>
            <p:cNvGrpSpPr/>
            <p:nvPr/>
          </p:nvGrpSpPr>
          <p:grpSpPr>
            <a:xfrm>
              <a:off x="7303680" y="54720"/>
              <a:ext cx="2148120" cy="2075040"/>
              <a:chOff x="7303680" y="54720"/>
              <a:chExt cx="2148120" cy="207504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303680" y="54720"/>
                <a:ext cx="2148120" cy="1695960"/>
                <a:chOff x="7303680" y="54720"/>
                <a:chExt cx="2148120" cy="16959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318440" y="434880"/>
                  <a:ext cx="2133360" cy="12034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0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9A27-F035-42ED-B20D-4BEFB0B3724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6C94-C122-4F31-BE85-2F4F29053F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e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e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e0000"/>
          </a:solidFill>
          <a:ln w="9360">
            <a:solidFill>
              <a:srgbClr val="c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AB40-8BE3-4791-9757-3AB6CE6031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47B9-72FE-49F9-9FF3-BC4224051A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089C-D557-452A-A94E-6A003477A4C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8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BC76-562B-4657-8050-4974ED3F4D5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3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0615-4F4E-4730-9311-7F098018EB4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8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8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CD85-2C06-49CB-A4B5-A0A22138D01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51B7-5209-4FA8-8398-08F6376C22D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0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2268360" y="259920"/>
            <a:ext cx="1083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усина Раушания Гатуфовн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Учитель истории и обществозна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Ġ  Новонадыровской средне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бщеобразовательной школы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Альметьевского муниципального райо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бщий педагогический стаж 17лет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в данной школе 12 л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Учитель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квалификационной категор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Тема аналитической справки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«Формирование и развитие компетентности обучающих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на уроках истории и обществознания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Технологическ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Готовность к самообразованию (образованию через всю жизнь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Информационн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Коммуникативная компетентност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Социальная компетентность (готовность к продуктивному социальному взаимодействию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Готовность делать осознанный и ответственный выбор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604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686800" y="-5307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4000" y="1052640"/>
            <a:ext cx="8603280" cy="4893840"/>
            <a:chOff x="324000" y="1052640"/>
            <a:chExt cx="8603280" cy="4893840"/>
          </a:xfrm>
        </p:grpSpPr>
        <p:cxnSp>
          <p:nvCxnSpPr>
            <p:cNvPr id="587" name="_s109582"/>
            <p:cNvCxnSpPr>
              <a:stCxn id="588" idx="0"/>
              <a:endCxn id="589" idx="2"/>
            </p:cNvCxnSpPr>
            <p:nvPr/>
          </p:nvCxnSpPr>
          <p:spPr>
            <a:xfrm flipV="1" rot="16200000">
              <a:off x="5644440" y="1992960"/>
              <a:ext cx="973080" cy="3011760"/>
            </a:xfrm>
            <a:prstGeom prst="bentConnector3">
              <a:avLst>
                <a:gd name="adj1" fmla="val 11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0" name="_s109581"/>
            <p:cNvCxnSpPr>
              <a:stCxn id="591" idx="0"/>
              <a:endCxn id="589" idx="2"/>
            </p:cNvCxnSpPr>
            <p:nvPr/>
          </p:nvCxnSpPr>
          <p:spPr>
            <a:xfrm flipV="1">
              <a:off x="4625280" y="3012480"/>
              <a:ext cx="3240" cy="973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2" name="_s109580"/>
            <p:cNvCxnSpPr>
              <a:stCxn id="593" idx="0"/>
              <a:endCxn id="589" idx="2"/>
            </p:cNvCxnSpPr>
            <p:nvPr/>
          </p:nvCxnSpPr>
          <p:spPr>
            <a:xfrm flipH="1" flipV="1" rot="5400000">
              <a:off x="2633400" y="1993320"/>
              <a:ext cx="973080" cy="3011760"/>
            </a:xfrm>
            <a:prstGeom prst="bentConnector3">
              <a:avLst>
                <a:gd name="adj1" fmla="val 116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 txBox="1"/>
            <p:nvPr/>
          </p:nvSpPr>
          <p:spPr>
            <a:xfrm>
              <a:off x="3335040" y="105264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иагностик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учеб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остиже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2400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Успеваемость  и качеств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образования по истор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333504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% учащихся повысивши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итоговую оценк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6346440" y="3985920"/>
              <a:ext cx="2580840" cy="196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Успеваемость и качеств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1000" spc="-1" strike="noStrike">
                  <a:solidFill>
                    <a:srgbClr val="ffffff"/>
                  </a:solidFill>
                  <a:latin typeface="Tahoma"/>
                </a:rPr>
                <a:t>образования по обществознани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8" name=""/>
            <p:cNvGraphicFramePr/>
            <p:nvPr/>
          </p:nvGraphicFramePr>
          <p:xfrm>
            <a:off x="3347280" y="4511160"/>
            <a:ext cx="2592360" cy="136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7280" y="4511160"/>
                      <a:ext cx="2592360" cy="136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00" name=""/>
          <p:cNvGraphicFramePr/>
          <p:nvPr/>
        </p:nvGraphicFramePr>
        <p:xfrm>
          <a:off x="324000" y="4005360"/>
          <a:ext cx="2592360" cy="151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2592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70440" y="2809080"/>
            <a:ext cx="2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993366"/>
                </a:solidFill>
                <a:latin typeface="Tahoma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613840" y="3388680"/>
            <a:ext cx="43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6300720" y="4005360"/>
          <a:ext cx="2664000" cy="1512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005360"/>
                    <a:ext cx="26640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Внеурочная деятельность обучающих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дение кружка  «Юный краевед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Работа с одаренными деть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Привлечение 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сследовательско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деятельнос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24000" y="1628640"/>
          <a:ext cx="8951760" cy="14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895176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0" y="2881800"/>
            <a:ext cx="56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dff"/>
                </a:solidFill>
                <a:latin typeface="Arial"/>
                <a:ea typeface="Times New Roman"/>
              </a:rPr>
              <a:t>Районный тур олимпи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81240" y="1407960"/>
            <a:ext cx="182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08000" y="3213000"/>
          <a:ext cx="5067360" cy="2535480"/>
        </p:xfrm>
        <a:graphic>
          <a:graphicData uri="http://schemas.openxmlformats.org/drawingml/2006/table">
            <a:tbl>
              <a:tblPr/>
              <a:tblGrid>
                <a:gridCol w="1079280"/>
                <a:gridCol w="432000"/>
                <a:gridCol w="431640"/>
                <a:gridCol w="319320"/>
                <a:gridCol w="407880"/>
                <a:gridCol w="385920"/>
                <a:gridCol w="487080"/>
                <a:gridCol w="382680"/>
                <a:gridCol w="382680"/>
                <a:gridCol w="380880"/>
                <a:gridCol w="37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/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/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импиад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вед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Х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tt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предприним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ой деятельности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</a:tbl>
          </a:graphicData>
        </a:graphic>
      </p:graphicFrame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 rot="784800">
            <a:off x="5076720" y="4508280"/>
            <a:ext cx="1195560" cy="18000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 rot="777600">
            <a:off x="5931000" y="4722480"/>
            <a:ext cx="1152360" cy="18176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 rot="759000">
            <a:off x="6877080" y="4581000"/>
            <a:ext cx="1150920" cy="18734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 rot="680400">
            <a:off x="7885080" y="4652640"/>
            <a:ext cx="112248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Учитель как классный руководител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 algn="ctr">
              <a:spcBef>
                <a:spcPts val="476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лассный руководитель – это посредник между обществом и растущей личностью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ctr">
              <a:spcBef>
                <a:spcPts val="476"/>
              </a:spcBef>
              <a:buClr>
                <a:srgbClr val="ce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Классный руководитель координатор совместных действии педагогов, семьи и творец повседневной деятельности дете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 rot="20541600">
            <a:off x="495000" y="3251160"/>
            <a:ext cx="2133720" cy="17114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 rot="1111200">
            <a:off x="6532200" y="3468240"/>
            <a:ext cx="2243160" cy="17478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6084720" y="4941720"/>
            <a:ext cx="2433960" cy="17589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468360" y="4846680"/>
            <a:ext cx="2158920" cy="18270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3132000" y="3284640"/>
            <a:ext cx="2376720" cy="18208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2987640" y="5103720"/>
            <a:ext cx="266400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ременные образовательные технолог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спользование  компьютерных технологии на уроках истории и обществознания делает труд педагога эффективны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ождает интерес к знаниям, дает возможность ученику самостоятельно усвоить учебный матери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еспечивает  учащихся необходимой информацией, способствует формированию саморазвития и самопозна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вает творческий и интеллектуальный потенциал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общение и распространение педагогического опыт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24000" y="2361960"/>
            <a:ext cx="8712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4/2005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крытый урок в 5 классе для директоров школ Альметьевского района и г. Альметьевс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5/2006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на семинаре РМО учителей истории и обществознания на тему «Интеграция на уроках истории и обществознания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6/2007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е внеурочное мероприятие для участников семинара РМО учителей истории и обществознания, которая проходила на базе Новонадыровской средней общеобразовательной школ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перед слушателями ИНПО г. Набережные Челны на тему: «Краеведение в системе работы учителя истории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7/2008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униципальном конкурсе «Учитель года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2008/2009 учебн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аседании круглого стола по теме «Инновационная деятельность учителя истории и обществознания» в ходе региональных курсов повышения квалификации учителей истории и общество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99"/>
                </a:solidFill>
                <a:latin typeface="Arial"/>
              </a:rPr>
              <a:t>Публик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здательстве «Открытый урок» г.Казань вышли  публикации: «Страна большого Хапи»- февраль 2007 г.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 чем говорит таинственный сундук?»- май 2007г.( на татарском языке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к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24000" y="2017800"/>
            <a:ext cx="466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6/2007 учебном году УО Альметьевского муниципального района  был объявлен  районный конкурс на «Лучший кабинет истории». Я приняла участие в конкурсе и была награждена дипломом УО в номинации «За инновационный подход при организации и проведении урочной и внеурочной деятельности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7/2008 учебном году принимала участие в муниципальном конкурсе «Учитель года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В 2008 году участвовала в муниципальном этапе Республиканского конкурса среди семей Республики Татарстан «Гордость Татарстана» номинация «Трудовая династия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1873080" cy="252108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7054920" y="3933720"/>
            <a:ext cx="1909800" cy="25196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27734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вышение квалифик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вышение своей квалификации -это стремление учителя к постоянному повышению своей профессиональной компетентности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0 году повышала  квалификацию а ИПКРО г.Казань по теме «Новые технологии в изучении предметов образовательной области «Обществознание»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1 году аттестовалась н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квалификационную категорию по должности «учитель»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2 году проходила курсы повышения при ИНПО г. Набережные Челны по проблеме «Методическая система учителя образовательной области «Обществознание»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3 году прошла обучение в ИПКРО г. Казань на курсах «Дидактическая система использования культурно-нравственных ценностей мировых религий в общеобразовательной школе»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6 году  успешно прошла аттестацию н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валификационную категорию по должности «учитель».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7 году прошла курсы по теме «ИКТ в педагогической деятельности», которую организовали Региональный координационный центр и ММЦ Альметьевского муниципального район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2008 году прошла обучение в ИНПО г. Набережные Челны РТ по теме «Актуальные вопросы исторического и обществоведческого образования в старшей (полной)школе»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7:37:34Z</dcterms:created>
  <dc:creator>User</dc:creator>
  <dc:description/>
  <dc:language>en-US</dc:language>
  <cp:lastModifiedBy>Customer</cp:lastModifiedBy>
  <dcterms:modified xsi:type="dcterms:W3CDTF">2010-05-29T05:44:42Z</dcterms:modified>
  <cp:revision>53</cp:revision>
  <dc:subject/>
  <dc:title>Мусина Раушания Гатуфовна</dc:title>
</cp:coreProperties>
</file>