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706100" cy="75422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E9C87-6B70-4658-9280-3B227D864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19000" y="416520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29DDD-1486-4C18-B964-A7DB600BF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558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826AE-AB15-43CF-898D-0178AFCC6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7864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3792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1900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7864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93792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7C4A7-754A-4254-8EC3-FE317FE10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1EC36-8CBF-44C7-95C2-00756245FD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19000" y="1834920"/>
            <a:ext cx="9048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8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BFF48-2511-4727-9427-DD4FBCD1CE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9048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049B4-4110-478B-A863-E01619FF72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472F6-0CBC-482B-A5D1-DEDC83C888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D30DA-2FE4-4276-B180-5A1CD1D2B5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19000" y="844200"/>
            <a:ext cx="904896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FCB1C-E28C-4139-94A2-04920A15EE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B08DD-1D96-41EA-A065-0DEE74C978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19000" y="1834920"/>
            <a:ext cx="9048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8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2037E-45D0-4FF8-B40C-1A4C10B63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558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896A5-5B27-4A82-80A0-B31C2DA170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525BB-0E1F-4F0C-8D89-06419410F4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19000" y="416520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C8C8A-F0B1-4D05-8B70-AC5F415E24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558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296CB-2D61-4A19-A48B-A44F07411D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7864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937920" y="183492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1900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7864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937920" y="4165200"/>
            <a:ext cx="291348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94A11-C387-4117-8F6C-6B0AF691F3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9048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5EFD6-97E9-47AA-80F5-F11057713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237B9-19AD-4DB1-9949-51FC4983E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53209-C2A3-432D-AB1E-CE1E3BA2B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19000" y="844200"/>
            <a:ext cx="904896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3012D-6900-4B2F-9452-F6B47DAB6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6311A-5B57-4EB6-8A33-C0F4C7ED6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55800" y="416520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E3040-585C-4E00-A557-BFAE85434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90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55800" y="1834920"/>
            <a:ext cx="44157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19000" y="4165200"/>
            <a:ext cx="9048960" cy="21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F0693-C2C0-4D81-AAD2-1EDEFC9B5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75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9000" y="1834920"/>
            <a:ext cx="9048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1" marL="382680" indent="-381240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6240" indent="-392040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3" marL="1905120" indent="-379440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4" marL="2664000" indent="-379440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5" marL="2664000" indent="-379440">
              <a:lnSpc>
                <a:spcPts val="2500"/>
              </a:lnSpc>
              <a:spcAft>
                <a:spcPts val="1312"/>
              </a:spcAft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6" marL="2664000" indent="-379440">
              <a:lnSpc>
                <a:spcPts val="2500"/>
              </a:lnSpc>
              <a:spcAft>
                <a:spcPts val="1312"/>
              </a:spcAft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19000" y="6889680"/>
            <a:ext cx="33768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Frutiger 55 Roman"/>
              </a:defRPr>
            </a:lvl1pPr>
          </a:lstStyle>
          <a:p>
            <a: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9000" y="7044840"/>
            <a:ext cx="337680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Frutiger 55 Roman"/>
              </a:defRPr>
            </a:lvl1pPr>
          </a:lstStyle>
          <a:p>
            <a: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Seite </a:t>
            </a:r>
            <a:fld id="{79704AE9-4C4F-4807-8FD0-4E21336BEB0B}" type="slidenum"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997840" y="6594480"/>
            <a:ext cx="1310760" cy="252360"/>
            <a:chOff x="8997840" y="6594480"/>
            <a:chExt cx="1310760" cy="252360"/>
          </a:xfrm>
        </p:grpSpPr>
        <p:grpSp>
          <p:nvGrpSpPr>
            <p:cNvPr id="5" name=""/>
            <p:cNvGrpSpPr/>
            <p:nvPr/>
          </p:nvGrpSpPr>
          <p:grpSpPr>
            <a:xfrm>
              <a:off x="9000720" y="6594480"/>
              <a:ext cx="1307880" cy="252360"/>
              <a:chOff x="9000720" y="6594480"/>
              <a:chExt cx="1307880" cy="252360"/>
            </a:xfrm>
          </p:grpSpPr>
          <p:sp>
            <p:nvSpPr>
              <p:cNvPr id="6" name=""/>
              <p:cNvSpPr/>
              <p:nvPr/>
            </p:nvSpPr>
            <p:spPr>
              <a:xfrm>
                <a:off x="9000720" y="6594480"/>
                <a:ext cx="0" cy="25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9003240" y="6594480"/>
                <a:ext cx="1305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8997840" y="6611760"/>
              <a:ext cx="1168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ogoplu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 flipH="1">
            <a:off x="819000" y="6296040"/>
            <a:ext cx="9048960" cy="0"/>
          </a:xfrm>
          <a:prstGeom prst="line">
            <a:avLst/>
          </a:prstGeom>
          <a:ln w="2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6578640" y="6867360"/>
            <a:ext cx="3240000" cy="50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9000" y="863640"/>
            <a:ext cx="904896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rutiger 75 Black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821880" y="6889680"/>
            <a:ext cx="33512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Frutiger 55 Roman"/>
              </a:defRPr>
            </a:lvl1pPr>
          </a:lstStyle>
          <a:p>
            <a: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821880" y="7044840"/>
            <a:ext cx="335124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Frutiger 55 Roman"/>
              </a:defRPr>
            </a:lvl1pPr>
          </a:lstStyle>
          <a:p>
            <a:pPr indent="0">
              <a:lnSpc>
                <a:spcPts val="11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Seite </a:t>
            </a:r>
            <a:fld id="{EAFE0536-A62F-4462-88D0-8B9521010109}" type="slidenum">
              <a:rPr b="0" lang="de-DE" sz="900" spc="-1" strike="noStrike">
                <a:solidFill>
                  <a:srgbClr val="000000"/>
                </a:solidFill>
                <a:latin typeface="Frutiger 55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8997840" y="6594480"/>
            <a:ext cx="1310760" cy="252360"/>
            <a:chOff x="8997840" y="6594480"/>
            <a:chExt cx="1310760" cy="252360"/>
          </a:xfrm>
        </p:grpSpPr>
        <p:grpSp>
          <p:nvGrpSpPr>
            <p:cNvPr id="51" name=""/>
            <p:cNvGrpSpPr/>
            <p:nvPr/>
          </p:nvGrpSpPr>
          <p:grpSpPr>
            <a:xfrm>
              <a:off x="9000720" y="6594480"/>
              <a:ext cx="1307880" cy="252360"/>
              <a:chOff x="9000720" y="6594480"/>
              <a:chExt cx="1307880" cy="252360"/>
            </a:xfrm>
          </p:grpSpPr>
          <p:sp>
            <p:nvSpPr>
              <p:cNvPr id="52" name=""/>
              <p:cNvSpPr/>
              <p:nvPr/>
            </p:nvSpPr>
            <p:spPr>
              <a:xfrm>
                <a:off x="9000720" y="6594480"/>
                <a:ext cx="0" cy="25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003240" y="6594480"/>
                <a:ext cx="1305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8997840" y="6611760"/>
              <a:ext cx="1168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ogoplu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578640" y="6870600"/>
            <a:ext cx="3240000" cy="500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535320" y="1764720"/>
            <a:ext cx="9635400" cy="43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1440" indent="0" algn="ctr">
              <a:lnSpc>
                <a:spcPts val="25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92240" indent="561960" algn="ctr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3" marL="379440" indent="1146240" algn="ctr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4" marL="574560" indent="1710000" algn="ctr">
              <a:lnSpc>
                <a:spcPts val="2500"/>
              </a:lnSpc>
              <a:spcAft>
                <a:spcPts val="1312"/>
              </a:spcAft>
              <a:buClr>
                <a:srgbClr val="324395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5" marL="574560" indent="1710000">
              <a:spcBef>
                <a:spcPts val="5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  <a:p>
            <a:pPr lvl="6" marL="574560" indent="1710000">
              <a:spcBef>
                <a:spcPts val="5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385920"/>
            <a:ext cx="3298680" cy="6913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344840" y="4211640"/>
            <a:ext cx="57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Frutiger 75 Black"/>
              </a:rPr>
              <a:t>Rating-Kennzah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Frutiger 75 Black"/>
              </a:rPr>
              <a:t>der Ban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3280" y="250020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WORKSHOP 2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Moderne Finanz-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Frutiger 55 Roman"/>
              </a:rPr>
              <a:t>und Ratingkommunik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75 Black"/>
              </a:rPr>
              <a:t>Kennzahlen bestimmen das Rating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19000" y="1753920"/>
            <a:ext cx="90489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lvl="1" marL="332640" indent="-331560">
              <a:lnSpc>
                <a:spcPts val="2500"/>
              </a:lnSpc>
              <a:spcAft>
                <a:spcPts val="1312"/>
              </a:spcAft>
              <a:buClr>
                <a:srgbClr val="e4502a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Die "harten" Faktoren, also die zahlenmäßige Darstellung des Unternehmens in Bilanz und GuV, bestimmen zum überwiegenden Teil das Ergebnis im Rating.</a:t>
            </a:r>
            <a:br>
              <a:rPr sz="2100"/>
            </a:b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7560" y="4707000"/>
            <a:ext cx="9048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ts val="2500"/>
              </a:lnSpc>
              <a:spcAft>
                <a:spcPts val="1312"/>
              </a:spcAft>
              <a:buClr>
                <a:srgbClr val="e4502a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Je nach Branchenmodell und Umsatzgröße werden beim Mittelstandsrating zwischen 5 und 7 Kennzahlen verwendet um die verschiedenen Analysebereiche zu betracht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6280" y="2835360"/>
            <a:ext cx="9048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444600" indent="12600">
              <a:lnSpc>
                <a:spcPts val="25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Die Gewichtung beim typischen Ratingverfahren der HypoVereinsbank für ein mittelständisches Unternehmen (Mittelstandsrating) beträgt 70 % Hard-facts zu 30% Soft-fac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75 Black"/>
              </a:rPr>
              <a:t>Kennzahlen beleuchten Analysebereiche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18640" y="1834920"/>
            <a:ext cx="89996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Frutiger 55 Roman"/>
              </a:rPr>
              <a:t>Beispiel: Analysebereich Verschuldung / Vermögen</a:t>
            </a:r>
            <a:br>
              <a:rPr sz="1900"/>
            </a:br>
            <a:r>
              <a:rPr b="1" lang="de-DE" sz="1900" spc="-1" strike="noStrike">
                <a:solidFill>
                  <a:srgbClr val="000000"/>
                </a:solidFill>
                <a:latin typeface="Frutiger 55 Roman"/>
              </a:rPr>
              <a:t>               Produktionsunternehmen mit einem Umsatz &gt; € 10 Mio</a:t>
            </a:r>
            <a:endParaRPr b="0" lang="en-US" sz="19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8720" y="2844720"/>
            <a:ext cx="9048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2500"/>
              </a:lnSpc>
              <a:spcAft>
                <a:spcPts val="1312"/>
              </a:spcAft>
              <a:buClr>
                <a:srgbClr val="e4502a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Kennzahl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Finanzaufwandsquote in %</a:t>
            </a:r>
            <a:br>
              <a:rPr sz="2100"/>
            </a:b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7560" y="4718160"/>
            <a:ext cx="90486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2500"/>
              </a:lnSpc>
              <a:spcAft>
                <a:spcPts val="1312"/>
              </a:spcAft>
              <a:buClr>
                <a:srgbClr val="e4502a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Frutiger 55 Roman"/>
              </a:rPr>
              <a:t>Kennzahl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Wirtschaftliche Eigenkapitalquote in %</a:t>
            </a:r>
            <a:br>
              <a:rPr sz="2100"/>
            </a:b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2720" y="3348000"/>
            <a:ext cx="6462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 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Zinsaufwand für vorrangiges Fremdkapit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= ----------------------------------------------------------------------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durchschnittliches vorrangiges Fremdkapit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14560" y="5138640"/>
            <a:ext cx="68893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               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wirtschaftliches Eigenkapit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= ---------------------------------------------------------------------------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   </a:t>
            </a:r>
            <a:r>
              <a:rPr b="1" i="1" lang="de-DE" sz="2100" spc="-1" strike="noStrike">
                <a:solidFill>
                  <a:srgbClr val="000000"/>
                </a:solidFill>
                <a:latin typeface="Frutiger 55 Roman"/>
              </a:rPr>
              <a:t>bereinigte Bilanzsumme – Grundstücke/Gebäu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75 Black"/>
              </a:rPr>
              <a:t>Kennzahlen sind nicht gleich gewichtet 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585880" y="395748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743040" y="1611360"/>
            <a:ext cx="417816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Das Unternehmen wird gegen den Median der jeweiligen Kennzahl in seiner Branchengruppe gespiegelt.  Der farbige Balken zeigt an, welchen Einfluß die Abweichung vom Median auf die Bilanzbonität h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Die Prozentzahl sagt </a:t>
            </a: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Frutiger 55 Roman"/>
              </a:rPr>
              <a:t>NICHT</a:t>
            </a: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  aus, wie stark das betrachtete Unternehmen vom Branchendurchschnitt bei der Kennzahl abweicht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00840" y="5375160"/>
            <a:ext cx="3962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Alle Prozentbeträge der Balken summieren sich betragsmäßig auf 10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4640" y="5100480"/>
            <a:ext cx="5111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Die Richtung bzw. die Farbe des Balkens geben  an, ob es sich um eine negative (nach links / rot) oder positive (nach rechts / grün) Beeinflussung der Bilanzbonität hande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24480" y="1549440"/>
            <a:ext cx="4394160" cy="344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66720" y="3122640"/>
            <a:ext cx="7351920" cy="3160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19000" y="844200"/>
            <a:ext cx="90489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75 Black"/>
              </a:rPr>
              <a:t>Kappungsgrenzen verhindern Ausreißer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65400" y="1467000"/>
            <a:ext cx="6321600" cy="1731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297560" y="3483000"/>
            <a:ext cx="792360" cy="1224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45200" y="2619360"/>
            <a:ext cx="1368360" cy="1511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53200" y="2619360"/>
            <a:ext cx="2233440" cy="1295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1200" y="1827360"/>
            <a:ext cx="3371760" cy="718920"/>
          </a:xfrm>
          <a:prstGeom prst="rect">
            <a:avLst/>
          </a:prstGeom>
          <a:solidFill>
            <a:srgbClr val="80808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1200" y="2736720"/>
            <a:ext cx="3371760" cy="385920"/>
          </a:xfrm>
          <a:prstGeom prst="rect">
            <a:avLst/>
          </a:prstGeom>
          <a:solidFill>
            <a:srgbClr val="808080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810640" y="5499000"/>
            <a:ext cx="1152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000" spc="-1" strike="noStrike" u="sng">
                <a:solidFill>
                  <a:srgbClr val="000000"/>
                </a:solidFill>
                <a:uFillTx/>
                <a:latin typeface="Frutiger 55 Roman"/>
              </a:rPr>
              <a:t>** Maja 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Frutiger 55 Roman"/>
              </a:rPr>
              <a:t>Maschinelle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Frutiger 55 Roman"/>
              </a:rPr>
              <a:t>Jahresabschluss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Frutiger 55 Roman"/>
              </a:rPr>
              <a:t>Analy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14600" y="1420920"/>
            <a:ext cx="4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utiger 75 Black"/>
              </a:rPr>
              <a:t>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36480" y="1038240"/>
            <a:ext cx="9015480" cy="50450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3680" y="417240"/>
            <a:ext cx="863424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rutiger 75 Black"/>
              </a:rPr>
              <a:t>Szenariorechnungen machen Chancen sichtbar</a:t>
            </a:r>
            <a:endParaRPr b="0" lang="en-US" sz="2800" spc="-1" strike="noStrike">
              <a:solidFill>
                <a:srgbClr val="000000"/>
              </a:solidFill>
              <a:latin typeface="Frutiger 75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7577280" y="4352760"/>
            <a:ext cx="1128600" cy="187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8480" y="819000"/>
            <a:ext cx="2783160" cy="6620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882520" y="1527120"/>
            <a:ext cx="4738680" cy="3379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3560" y="1146240"/>
            <a:ext cx="1439640" cy="536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49520" y="1322280"/>
            <a:ext cx="2695680" cy="11541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44600" y="1187280"/>
            <a:ext cx="837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cc"/>
                </a:solidFill>
                <a:latin typeface="Frutiger 75 Black"/>
              </a:rPr>
              <a:t>Vielen Dank für Ihre Aufmerksamkeit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41280" y="2936880"/>
            <a:ext cx="8202600" cy="126540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45200" y="890640"/>
            <a:ext cx="38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Frutiger 75 Black"/>
              </a:rPr>
              <a:t>Joachim Schol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10280" y="1900080"/>
            <a:ext cx="4673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HypoVereins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Zentralberei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Firmen- 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Kommerzielle Immobilienk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Am Tucherpark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80538 Mün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Telefon +49 (0)89/378-2433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Telefax +49 (0)89/378-33-243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utiger 55 Roman"/>
              </a:rPr>
              <a:t>joachim.scholz@hvb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8:49:04Z</dcterms:created>
  <dc:creator/>
  <dc:description/>
  <dc:language>en-US</dc:language>
  <cp:lastModifiedBy> </cp:lastModifiedBy>
  <dcterms:modified xsi:type="dcterms:W3CDTF">2007-09-11T10:32:44Z</dcterms:modified>
  <cp:revision>13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33038333</vt:r8>
  </property>
</Properties>
</file>