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328E-2CEA-4C28-B0FC-0A0C83FC9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00AF-F278-4948-A520-F426DC99C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B90D-5FF8-4727-A249-402007CF4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E7EB-0C81-447A-9418-4ED9EB4B5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4E147-35B3-46E9-AFF1-A143B1C04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2CBBD-F039-4210-945A-12F85E0D4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35F46-06EA-42E5-A31D-FF70D5697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43C45-784B-4D00-B4B5-FDA0DF22D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7129B-AA35-4044-9923-621BA42E9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4F822-01C3-4996-AA44-76F5B5201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305E0-804C-4041-833D-DCA3E0D4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159D-2941-46D3-BC58-A9B592733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47FFD-6153-46C6-BE64-7FBE950C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DB37B-EDA0-4FFC-8882-39A4801D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089C5-8BC6-4D2A-AC0D-EA109121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A8A73-D4D1-443A-8225-26E1BDDAA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A29BF-14D2-4130-872D-E89C07C2B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3F807-D385-40C0-8F30-8734AC8AE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8F0FE-7043-49BE-8BD5-D84FF4EA5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2C91F-E8FD-46BF-BB0E-873BC27A9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DCED3-56A7-48C8-84D0-B97340057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AF7F6-7776-44FA-BD27-9929B6459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6327-F932-45C8-8B12-1593CF976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E7909-CA01-4C98-9439-585CA119B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AFC23-E631-42E2-AFA7-FE254305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3B315-B8BE-44CC-97FF-9CFFDBDF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44A00-9D11-4B0F-A10F-CCEF710A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4D929-176A-42E1-9A91-1D8AB3451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5D260-848E-498F-9F9D-8DED4BE4A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4329C-EE40-4C56-870D-CE5C58942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8EE4-DD62-490D-91F6-21DAE5E9E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B4107-7499-4CC7-84CD-AF619E73A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D199-99E5-49BC-94C5-040E06F5B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5287B-250A-4D6C-A1D4-A0A80F37D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618E9-EA83-472C-B630-BCDFB4D65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1F030-4FFC-45DB-B5E3-00DABC2BF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DD4FF-532D-48E6-9C86-354609F65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27B40-F443-47CE-99A3-D185769CC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A7F84-F2A6-4EFF-9D79-D90C6AEE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884D5-3550-48D7-A0B5-B78C21E5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7BD6F-F63B-4538-BD97-6087472A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B76B4-DE21-4F39-8F2A-EEB81F7AF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FAEEE-6E5A-4AE5-B029-583A7D617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6569-E907-435B-89E4-8B744F688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1551F-BAE2-4439-A537-97D42C309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89EC-AECE-4A08-8C6F-BEAD8C9C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3EC7-4C16-488D-B5F9-C3B553CB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6051-607D-4E32-8E6A-5871564C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eff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eff"/>
              </a:solidFill>
              <a:latin typeface="Arial"/>
            </a:endParaRPr>
          </a:p>
        </p:txBody>
      </p:sp>
      <p:sp>
        <p:nvSpPr>
          <p:cNvPr id="2" name="Straight Connector 6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e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e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e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e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e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e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e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e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e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e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e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e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e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e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e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e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e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e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7BF58-BDF7-43B1-8DC3-0E4B201001F9}" type="slidenum">
              <a:rPr b="1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eff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eff"/>
              </a:solidFill>
              <a:latin typeface="Arial"/>
            </a:endParaRPr>
          </a:p>
        </p:txBody>
      </p:sp>
      <p:sp>
        <p:nvSpPr>
          <p:cNvPr id="46" name="Straight Connector 10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e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e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A4227-A11F-4BF7-87DC-BAC81B683CD4}" type="slidenum">
              <a:rPr b="1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eff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eff"/>
              </a:solidFill>
              <a:latin typeface="Arial"/>
            </a:endParaRPr>
          </a:p>
        </p:txBody>
      </p:sp>
      <p:sp>
        <p:nvSpPr>
          <p:cNvPr id="90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e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e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E7F85-53F7-4320-9509-A9CFB8A79573}" type="slidenum">
              <a:rPr b="1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574200" y="304920"/>
            <a:ext cx="8001000" cy="12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0" lang="en-CA" sz="3400" spc="-1" strike="noStrike">
                <a:solidFill>
                  <a:srgbClr val="d2533c"/>
                </a:solidFill>
                <a:latin typeface="Arial"/>
              </a:rPr>
              <a:t>Carbon- Hydrogen Combustion Analyzer</a:t>
            </a:r>
            <a:br>
              <a:rPr sz="3400"/>
            </a:br>
            <a:endParaRPr b="0" lang="en-US" sz="3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92934"/>
                </a:solidFill>
                <a:latin typeface="Arial"/>
              </a:rPr>
              <a:t>How does this work?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400"/>
              </a:spcBef>
              <a:buClr>
                <a:srgbClr val="93a2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349"/>
              </a:spcBef>
              <a:buClr>
                <a:srgbClr val="93a2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349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349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598F2-C2C2-49C0-9E3C-A5906BC2F64A}" type="slidenum">
              <a:rPr b="0" lang="en-C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e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63280" y="2276280"/>
            <a:ext cx="5722920" cy="11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r>
              <a:rPr b="0" lang="en-CA" sz="3000" spc="-1" strike="noStrike">
                <a:solidFill>
                  <a:srgbClr val="d2533c"/>
                </a:solidFill>
                <a:latin typeface="Arial"/>
              </a:rPr>
              <a:t>FINDING</a:t>
            </a:r>
            <a:br>
              <a:rPr sz="3000"/>
            </a:br>
            <a:r>
              <a:rPr b="0" lang="en-CA" sz="3000" spc="-1" strike="noStrike">
                <a:solidFill>
                  <a:srgbClr val="d2533c"/>
                </a:solidFill>
                <a:latin typeface="Arial"/>
              </a:rPr>
              <a:t>EMPIRICAL AND CHEMICAL FORMULAS BY EXPERIMENT</a:t>
            </a:r>
            <a:endParaRPr b="0" lang="en-US" sz="3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766520" y="3668760"/>
            <a:ext cx="5553000" cy="13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92934"/>
                </a:solidFill>
                <a:latin typeface="Arial"/>
              </a:rPr>
              <a:t>Chemistry 11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92934"/>
                </a:solidFill>
                <a:latin typeface="Arial"/>
              </a:rPr>
              <a:t>Ms. McGrath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d2533c"/>
                </a:solidFill>
                <a:latin typeface="Arial"/>
              </a:rPr>
              <a:t>Finding Empirical and Chemical Formulas</a:t>
            </a:r>
            <a:br>
              <a:rPr sz="2800"/>
            </a:br>
            <a:r>
              <a:rPr b="0" lang="en-CA" sz="2800" spc="-1" strike="noStrike">
                <a:solidFill>
                  <a:srgbClr val="d2533c"/>
                </a:solidFill>
                <a:latin typeface="Arial"/>
              </a:rPr>
              <a:t>by Experiment</a:t>
            </a:r>
            <a:endParaRPr b="0" lang="en-US" sz="28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92934"/>
                </a:solidFill>
                <a:latin typeface="Arial"/>
              </a:rPr>
              <a:t>We know how to find percentage composition of a compound using its chemical formula.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92934"/>
                </a:solidFill>
                <a:latin typeface="Arial"/>
              </a:rPr>
              <a:t>Often, the chemical formula is not known.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92934"/>
                </a:solidFill>
                <a:latin typeface="Arial"/>
              </a:rPr>
              <a:t>Experimentation is then used to determine the percentage composition, molar mass then the chemical formula.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d2533c"/>
                </a:solidFill>
                <a:latin typeface="Arial"/>
              </a:rPr>
              <a:t>Finding Empirical and Chemical Formulas</a:t>
            </a:r>
            <a:br>
              <a:rPr sz="2800"/>
            </a:br>
            <a:r>
              <a:rPr b="0" lang="en-CA" sz="2800" spc="-1" strike="noStrike">
                <a:solidFill>
                  <a:srgbClr val="d2533c"/>
                </a:solidFill>
                <a:latin typeface="Arial"/>
              </a:rPr>
              <a:t>by Experiment</a:t>
            </a:r>
            <a:endParaRPr b="0" lang="en-US" sz="28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 u="sng">
                <a:solidFill>
                  <a:srgbClr val="292934"/>
                </a:solidFill>
                <a:uFillTx/>
                <a:latin typeface="Arial"/>
              </a:rPr>
              <a:t>Carbon- Hydrogen Combustion Analyzer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92934"/>
                </a:solidFill>
                <a:latin typeface="Arial"/>
              </a:rPr>
              <a:t>An instrument that is used to analyze the amount of hydrogen, carbon and oxygen in important chemicals.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92934"/>
                </a:solidFill>
                <a:latin typeface="Arial"/>
              </a:rPr>
              <a:t>It determines the percentage composition of compounds that are made up of these three elements.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0" lang="en-CA" sz="3400" spc="-1" strike="noStrike">
                <a:solidFill>
                  <a:srgbClr val="d2533c"/>
                </a:solidFill>
                <a:latin typeface="Arial"/>
              </a:rPr>
              <a:t>Carbon- Hydrogen Combustion Analyzer</a:t>
            </a:r>
            <a:br>
              <a:rPr sz="3400"/>
            </a:br>
            <a:endParaRPr b="0" lang="en-US" sz="34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20" name="Content Placeholder 3" descr=""/>
          <p:cNvPicPr/>
          <p:nvPr/>
        </p:nvPicPr>
        <p:blipFill>
          <a:blip r:embed="rId1"/>
          <a:stretch/>
        </p:blipFill>
        <p:spPr>
          <a:xfrm>
            <a:off x="787320" y="2597040"/>
            <a:ext cx="762660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0" lang="en-CA" sz="3400" spc="-1" strike="noStrike">
                <a:solidFill>
                  <a:srgbClr val="d2533c"/>
                </a:solidFill>
                <a:latin typeface="Arial"/>
              </a:rPr>
              <a:t>Carbon- Hydrogen Combustion Analyzer</a:t>
            </a:r>
            <a:br>
              <a:rPr sz="3400"/>
            </a:br>
            <a:endParaRPr b="0" lang="en-US" sz="3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92934"/>
                </a:solidFill>
                <a:latin typeface="Arial"/>
              </a:rPr>
              <a:t>How does this work?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0" lang="en-CA" sz="3400" spc="-1" strike="noStrike">
                <a:solidFill>
                  <a:srgbClr val="d2533c"/>
                </a:solidFill>
                <a:latin typeface="Arial"/>
              </a:rPr>
              <a:t>Carbon- Hydrogen Combustion Analyzer</a:t>
            </a:r>
            <a:br>
              <a:rPr sz="3400"/>
            </a:br>
            <a:endParaRPr b="0" lang="en-US" sz="3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92934"/>
                </a:solidFill>
                <a:latin typeface="Arial"/>
              </a:rPr>
              <a:t>How does this work?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92934"/>
                </a:solidFill>
                <a:latin typeface="Arial"/>
              </a:rPr>
              <a:t>Compounds containing carbon and hydrogen will burn in a stream of pure oxygen, O2, to produce only carbon dioxide and water.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92934"/>
                </a:solidFill>
                <a:latin typeface="Arial"/>
              </a:rPr>
              <a:t>If a sample contains only carbon and hydrogen you can find the mass of the products (CO2 and H2O) separately to determine the mass percent of the compound.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d2533c"/>
                </a:solidFill>
                <a:latin typeface="Arial"/>
              </a:rPr>
              <a:t>Carbon- Hydrogen Combustion Analyzer</a:t>
            </a:r>
            <a:endParaRPr b="0" lang="en-US" sz="34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26" name="Content Placeholder 3" descr=""/>
          <p:cNvPicPr/>
          <p:nvPr/>
        </p:nvPicPr>
        <p:blipFill>
          <a:blip r:embed="rId1"/>
          <a:stretch/>
        </p:blipFill>
        <p:spPr>
          <a:xfrm>
            <a:off x="1276200" y="2722680"/>
            <a:ext cx="639936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d2533c"/>
                </a:solidFill>
                <a:latin typeface="Arial"/>
              </a:rPr>
              <a:t>Carbon- Hydrogen Combustion Analyzer</a:t>
            </a:r>
            <a:endParaRPr b="0" lang="en-US" sz="3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92934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92934"/>
                </a:solidFill>
                <a:latin typeface="Arial"/>
              </a:rPr>
              <a:t>A 1.000 g sample of a pure compound, containing only carbon and hydrogen, was combusted in an analyzer.  The combustion produced 0.6919 g of water and 3.338 g of carbon dioxide.  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93a299"/>
              </a:buClr>
              <a:buSzPct val="8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92934"/>
                </a:solidFill>
                <a:latin typeface="Arial"/>
              </a:rPr>
              <a:t>Calculate the mass of carbon and hydrogen in the sample.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93a299"/>
              </a:buClr>
              <a:buSzPct val="8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92934"/>
                </a:solidFill>
                <a:latin typeface="Arial"/>
              </a:rPr>
              <a:t>Find the empirical formula of the compound. 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7T20:15:40Z</dcterms:created>
  <dc:creator>Tammy</dc:creator>
  <dc:description/>
  <dc:language>en-US</dc:language>
  <cp:lastModifiedBy>SHS</cp:lastModifiedBy>
  <dcterms:modified xsi:type="dcterms:W3CDTF">2013-10-09T13:56:24Z</dcterms:modified>
  <cp:revision>12</cp:revision>
  <dc:subject/>
  <dc:title>Finding Empirical and Chemical Formulas by Experiment</dc:title>
</cp:coreProperties>
</file>