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213920"/>
        <c:axId val="9331511"/>
      </c:barChart>
      <c:catAx>
        <c:axId val="952139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1511"/>
        <c:crosses val="autoZero"/>
        <c:auto val="1"/>
        <c:lblAlgn val="ctr"/>
        <c:lblOffset val="100"/>
        <c:noMultiLvlLbl val="0"/>
      </c:catAx>
      <c:valAx>
        <c:axId val="93315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139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C331-1742-431A-BE5D-BD08076AF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04B3-1869-4C00-B083-EAA483E4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D5B8-A62C-4DB4-9F11-436C1AA0E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AC9B-B0C4-45BE-A8E4-072EAA7E6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778C-7EC7-4AAC-B542-7368436B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1D29-2021-4D85-B5CE-C12A7433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7BAC-5BEC-4972-BE53-12DA70AB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637D-AE74-4660-AD1C-1571FF26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CDE8-0A9F-419C-91B4-0D2A2DCF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4EF2-5A89-4E10-9AC3-CDD43418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3F69-3B5E-4469-A3B4-12EE68C0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962D-0E65-4E62-8637-B61C28FE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AC12E-EC17-4A95-9078-ADB50F475A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