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09469"/>
        <c:axId val="69803341"/>
      </c:barChart>
      <c:catAx>
        <c:axId val="84909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03341"/>
        <c:crosses val="autoZero"/>
        <c:auto val="1"/>
        <c:lblAlgn val="ctr"/>
        <c:lblOffset val="100"/>
        <c:noMultiLvlLbl val="0"/>
      </c:catAx>
      <c:valAx>
        <c:axId val="69803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09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671E-34B7-4938-A909-DC6CD6E6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3FB-BE95-4230-9F52-0C590D8C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4E3-0250-43E8-AC46-D6BBDF24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2B2-245C-4B86-971C-F13A19C2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B5C-E9C6-44CE-B904-5ADFF7F4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CCE-786C-40D8-9016-6CD5E90D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843-C88F-46B6-8A5D-8BC2EEB9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95C-A49C-49A9-8563-AFF22D7E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527C-79B2-4FBE-B769-60C13482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1CF-24B3-46AE-AAEA-EA949106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119B-6903-4E3A-BED2-1D664992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916-FF68-4D08-8879-BDA7A7D8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0431F-6263-4865-9B06-5ED067E474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