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38"/>
        <c:axId val="19454036"/>
      </c:barChart>
      <c:catAx>
        <c:axId val="85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54036"/>
        <c:crosses val="autoZero"/>
        <c:auto val="1"/>
        <c:lblAlgn val="ctr"/>
        <c:lblOffset val="100"/>
        <c:noMultiLvlLbl val="0"/>
      </c:catAx>
      <c:valAx>
        <c:axId val="19454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B1F-C482-4B52-B65C-899CB91A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471-F9F1-413C-B7DB-88B72947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39A-8046-46B5-9E1C-57F54958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401-763D-4466-8D06-F27C306F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ADC-3B6A-423F-8D3F-4C3B9226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28B-3AB6-403A-A929-81188BDC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89C-01A8-40B2-B71D-F4A48871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841-4F20-4D36-B5AB-2B7CA64A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BC4-8952-43C7-A3AA-9295BAF4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85A-3E95-4B3D-9738-725AFD1A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8E9-2A1C-4E70-A19D-A47848CB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79C-47B9-42DE-BD2B-818ADE7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58988-F3C4-4C66-A5F1-923E4017B2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