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1459141"/>
        <c:axId val="54826273"/>
      </c:barChart>
      <c:catAx>
        <c:axId val="4145914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826273"/>
        <c:crosses val="autoZero"/>
        <c:auto val="1"/>
        <c:lblAlgn val="ctr"/>
        <c:lblOffset val="100"/>
        <c:noMultiLvlLbl val="0"/>
      </c:catAx>
      <c:valAx>
        <c:axId val="5482627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45914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3C0C2-A272-4109-A67E-4B760997E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1EDA7-9D79-4D41-9796-A178D75DF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C2D4F-A3D5-41FC-9790-FB9A9B896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B9E3C-B2AB-4356-A1DF-D012A831F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FC370-C309-4D9D-9CD8-A36264FA4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A25E2-D0D3-499F-92B9-658B1CA05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6920A-FA1A-4C6C-A54D-11FFEE708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76EAE-9242-446D-A211-318B2191E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C5E22-2608-498F-B98E-B2011E389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40191-EB76-41EA-82FC-C3B8EAF58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2BE02-66FB-4B26-B105-FC8710476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AC35B-A631-401F-8E0D-1D3DFB7AF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243FFD-EAEB-4D10-8C3D-A9F917D2766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