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73720"/>
        <c:axId val="28317881"/>
      </c:barChart>
      <c:catAx>
        <c:axId val="47373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17881"/>
        <c:crosses val="autoZero"/>
        <c:auto val="1"/>
        <c:lblAlgn val="ctr"/>
        <c:lblOffset val="100"/>
        <c:noMultiLvlLbl val="0"/>
      </c:catAx>
      <c:valAx>
        <c:axId val="28317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73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C98-9199-4D2F-9FD1-DB803B6E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B4C-3335-4D7F-852E-47FE2B8B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E53-81BC-4E84-89FD-DD179720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1B2-CCF5-4C76-82A3-72E1A456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483-0437-4AC5-B5E4-6C5A42DC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59C-9637-4973-BB0E-998E7D33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B40-2368-4641-98F7-5BE795E0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F49-8EF2-411C-9495-4C6D91B9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945-90FA-4833-B632-EEF17236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DD9-4C72-4E4A-AF5A-46F548D5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970-D379-43FF-AA35-E0C9EEF8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908-7099-460B-8892-05E9B0B7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1D195-39CD-45C1-876B-A2B527D81A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