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82111"/>
        <c:axId val="46682476"/>
      </c:barChart>
      <c:catAx>
        <c:axId val="25182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82476"/>
        <c:crosses val="autoZero"/>
        <c:auto val="1"/>
        <c:lblAlgn val="ctr"/>
        <c:lblOffset val="100"/>
        <c:noMultiLvlLbl val="0"/>
      </c:catAx>
      <c:valAx>
        <c:axId val="46682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82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711-D0D2-4CF7-BBEF-32B4FB8F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9BD-2C6C-4FFB-A955-25AF23AC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8DA-3BC8-40EA-A57A-299546C5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CE2-4882-4117-BF53-D35AC8E5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895-B6AC-413F-A196-C7BCC14E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95E-3050-4EA5-98EC-02E23474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FD6-2A82-4807-885A-8E710FCC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136-7295-4B96-8103-9A7C091D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1A7-E64E-4159-B21E-9BED341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1DD-D23C-4219-AE0D-434D01BC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C74-254E-4E0A-A842-53E4305B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0DB-93F6-43A7-A28C-1AEC7413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CBDB2-3F96-4DEA-AF4E-79717CD567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