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85634"/>
        <c:axId val="11717815"/>
      </c:barChart>
      <c:catAx>
        <c:axId val="88485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7815"/>
        <c:crosses val="autoZero"/>
        <c:auto val="1"/>
        <c:lblAlgn val="ctr"/>
        <c:lblOffset val="100"/>
        <c:noMultiLvlLbl val="0"/>
      </c:catAx>
      <c:valAx>
        <c:axId val="11717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85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DE5-255E-4A20-A6FA-23995C3C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42B-4779-473D-8359-2C8BAA87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DFD-D101-4728-876D-65E0A3A2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B49-61C7-4D6F-9ED0-2D341774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D22-90C5-47A5-8CAC-D4F2ED5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D8E-1777-40F4-A026-DF5F9BE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A72-12D1-4F25-802F-8D15E4D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CC9-49EB-46A2-800F-7F250E56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7F0-60E1-4886-820B-D119D61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F98-676D-4340-878C-6F6C05A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84D-F093-4A7C-9798-B381B09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A8D-49D6-4E4A-A902-6841D7EC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04E5A-8C89-49FC-A63C-9852650FC0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