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05289"/>
        <c:axId val="69211741"/>
      </c:barChart>
      <c:catAx>
        <c:axId val="45105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1741"/>
        <c:crosses val="autoZero"/>
        <c:auto val="1"/>
        <c:lblAlgn val="ctr"/>
        <c:lblOffset val="100"/>
        <c:noMultiLvlLbl val="0"/>
      </c:catAx>
      <c:valAx>
        <c:axId val="69211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5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38E-28BB-49B1-AA20-439106D9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8A1-2402-414F-AE63-D7E54B44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5AF-77B1-495A-BD0B-A884BFAC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659-855E-4C96-A3B0-BDBDC0F2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AAD-8A27-402A-BFC6-8EBFD6F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49F-CF84-458A-868B-F06BEEC9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CF3-5377-4658-97BF-B039BBB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C3-B6F6-4457-8F5C-FF37E62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A83-64AD-4504-A20F-460C1BB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D71-67BE-45F0-851F-BC9B826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788-B1AB-4E73-BD74-2BBE950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A48-9515-4EEB-8678-411564C0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801FE-6A3D-445A-AF61-958882C7C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