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47385"/>
        <c:axId val="53838541"/>
      </c:barChart>
      <c:catAx>
        <c:axId val="86647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8541"/>
        <c:crosses val="autoZero"/>
        <c:auto val="1"/>
        <c:lblAlgn val="ctr"/>
        <c:lblOffset val="100"/>
        <c:noMultiLvlLbl val="0"/>
      </c:catAx>
      <c:valAx>
        <c:axId val="53838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7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EF7-A5CB-402B-AE31-F0245A5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C02-CAED-404A-ACA5-0DD4B9C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563-5A31-4484-BF3A-09E47963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A05-C95F-475E-9DB9-D1AE7EF3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1F5-6A81-482D-B575-573D07AB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106-BC51-4201-AF59-B932ACA7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6E2-5F44-4F9E-86CD-14D9D5C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79B-9BA8-4824-9061-6A73A6B3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DFB-ED81-452B-BDEB-905DB5EF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D6E-9812-4797-9CFF-7C2D882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134-DB56-45B7-AC37-37F1C7F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7BF-06DF-4792-87A6-FEB8121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2D486-E914-4D08-83D7-A3AB7A892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