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99739"/>
        <c:axId val="84999749"/>
      </c:barChart>
      <c:catAx>
        <c:axId val="49699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99749"/>
        <c:crosses val="autoZero"/>
        <c:auto val="1"/>
        <c:lblAlgn val="ctr"/>
        <c:lblOffset val="100"/>
        <c:noMultiLvlLbl val="0"/>
      </c:catAx>
      <c:valAx>
        <c:axId val="84999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99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520-A04D-412C-8ABF-B1DE2E2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C42-141C-4A11-BABF-FC60B66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E80-D2DF-4707-8815-C69FF89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3FA-D3A3-4065-B272-4956850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2BC-4217-4450-8CAB-4C18647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F26-D60C-4887-9541-D5B8208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D20-C2DA-4BCE-9E48-6A978FED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20B-C726-468F-8552-4D775FE6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864-4022-4876-98B9-82ABC58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544-AEBC-4DA6-8242-B6E4626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215-5DFF-4E24-9A55-5A3409D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301-C3CA-4668-8DA1-08DE9A7F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4A4EE-1C2D-4B7A-B9CD-48F8D29BE6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