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95955"/>
        <c:axId val="98923903"/>
      </c:barChart>
      <c:catAx>
        <c:axId val="858959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23903"/>
        <c:crosses val="autoZero"/>
        <c:auto val="1"/>
        <c:lblAlgn val="ctr"/>
        <c:lblOffset val="100"/>
        <c:noMultiLvlLbl val="0"/>
      </c:catAx>
      <c:valAx>
        <c:axId val="98923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959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67DA-60E8-424F-A919-2F114674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8930-5EE7-4595-BFE1-94C1857B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F08-F957-4FDD-A4E6-1292AB19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8469-82CF-412F-B09C-B4B6C549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272-CA3B-4D1A-8E44-C95FC442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C42-99A4-460A-8637-C85DBAD79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3945-6714-416C-BB1F-CD8B5FD5C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299-A14C-4FD4-9F20-10B2E0ED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D64-C52F-4398-BF22-A81698E6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0EBC-B035-4AAB-9249-80AE7723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CCC5-73E4-40F1-9A80-331DB1B0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BC12-7394-485C-8E07-42C84134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E7320-DAEA-4813-B862-421D6449B3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