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15872"/>
        <c:axId val="12530124"/>
      </c:barChart>
      <c:catAx>
        <c:axId val="27015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30124"/>
        <c:crosses val="autoZero"/>
        <c:auto val="1"/>
        <c:lblAlgn val="ctr"/>
        <c:lblOffset val="100"/>
        <c:noMultiLvlLbl val="0"/>
      </c:catAx>
      <c:valAx>
        <c:axId val="12530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5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D7C-8330-45AD-AB63-8C74C2C7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BE7-1C75-4EDB-B278-EB84351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DC5-4E15-43E6-BDC5-50BCA2D4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09D-B174-4A4E-A2E0-50AA9822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52D-C76F-46E7-A4F7-7830CE0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2BE-6462-4E44-835D-C76BFC02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BB5-50B2-42B5-BD1E-4F8C5D6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FE9-76DC-421C-A960-F38AA03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2C7-D025-4CC9-90AB-144C54CD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010-6A08-4A72-9399-ED3203C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2A4-2DD3-4A48-AC8F-59F6A64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53B-7E04-4BEC-B411-4D9B6B7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1AD08-FCD9-4E06-B9C0-061F47775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