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3908566"/>
        <c:axId val="28057004"/>
      </c:barChart>
      <c:catAx>
        <c:axId val="5390856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057004"/>
        <c:crosses val="autoZero"/>
        <c:auto val="1"/>
        <c:lblAlgn val="ctr"/>
        <c:lblOffset val="100"/>
        <c:noMultiLvlLbl val="0"/>
      </c:catAx>
      <c:valAx>
        <c:axId val="2805700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90856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BB650-65F6-4899-BCAF-2DE8F953F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56FD5-A74E-40E6-84B9-0947111D2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9B161-E34A-44C4-8E81-DF5A44B47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DFD06-08F0-406B-A425-FBEB932C6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42C5A-23D3-4EB3-A8B3-58DE7930C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31748-04F2-46D8-94F4-F42D70432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C3CB8-5791-481D-A48B-34D6AFE9D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CE420-F243-40D7-87E4-E6EB26A23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7B163-4B9C-4DDD-BD6F-8CFEBBAC6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4B21A-A3C5-4671-A58A-7470BFD98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6F752-72D2-48FB-9587-B99F6A886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237ED-1A8E-4BA8-9817-2F2E22AA3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BAED96-41DF-4E79-9B6E-A9FA447A3E4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