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56614"/>
        <c:axId val="80662468"/>
      </c:barChart>
      <c:catAx>
        <c:axId val="13456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2468"/>
        <c:crosses val="autoZero"/>
        <c:auto val="1"/>
        <c:lblAlgn val="ctr"/>
        <c:lblOffset val="100"/>
        <c:noMultiLvlLbl val="0"/>
      </c:catAx>
      <c:valAx>
        <c:axId val="8066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56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EAF-DD4F-41FB-892B-451FF026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26F-04A4-4766-BE5D-B690BCB7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4F6-9A4F-411C-867D-B8D67810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FB0-8082-4A52-818A-01AA0774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947-44DE-4F4C-AC21-9A50FDC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9CA-D41E-4602-8D23-C70825C7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FC5-0D7E-4C88-9928-29CD93C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CC3-6750-494D-8341-E717D659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7A2-A677-4FC5-840C-15745CE6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371-FA28-4D4B-8A6A-6646D17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74B-C6CE-47C9-B802-9609C7F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E93-47CD-4F10-AD35-F06534C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32E00-3CD7-4702-9C6D-115CDD39F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