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6563"/>
        <c:axId val="35854846"/>
      </c:barChart>
      <c:catAx>
        <c:axId val="2096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4846"/>
        <c:crosses val="autoZero"/>
        <c:auto val="1"/>
        <c:lblAlgn val="ctr"/>
        <c:lblOffset val="100"/>
        <c:noMultiLvlLbl val="0"/>
      </c:catAx>
      <c:valAx>
        <c:axId val="35854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6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F1D-BFD8-451A-8603-FD346D31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22F-D714-4634-A82B-70958F2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826-B37B-4E89-9F49-58F4706F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18C-4CC5-49DF-9912-B4B53764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67D-D8D1-4D5C-B5DF-58E3E61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538-58BE-4706-B46F-77F0A4F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887-FC15-4E58-BE2A-4D029AB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40-EA80-4EA3-9B9A-8DB6802D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4C4-6974-4B51-A144-1AB16965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5F0-DC31-49C1-9330-30B9F0C0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FCB-AFE8-4F9D-8F59-535876E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668-355A-4D7F-AF53-69CAC5F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A469E-A151-430D-872A-4D76294EA4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